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D309-05BA-401A-AC9A-5A04E0C9CF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65A0-5519-46BD-BF06-E5834C3066B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2969-BA4E-42A2-94AA-CE15FF3BCFB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E2F1-94C4-4A42-97C1-0331E2DA181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E913-50D4-4D6A-9B6A-4D9A3311686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730B-2950-4868-ACF7-D8AE2DA3252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436E-606F-4548-BDAB-A6B432291F2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1A9F-C4B6-420C-AC55-CE7F9162A5C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23F4-C59E-4C73-83B8-734F3A44988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9FB7-ED5D-44FA-B441-3E1E8D0410E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EF90-4C9E-4B60-A96E-6661AECF613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AFE4-9CD9-4937-B027-F8B4B805B74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B46E-97BC-4BCE-9E74-EDB386DB988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D9FE-3533-4E4A-9156-C0D97F26575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F2CE-9890-42BD-A0D2-654E45190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BCB3-6400-44E5-9779-3191B631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3C41-7855-4D9D-8530-9E2DC44D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F07C-6AAD-4A6A-B967-20D3BFC31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BE64-33C9-4903-B989-97143B0D1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479A-9FC0-4C9C-A6ED-0BEBB951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278F-A6BC-47B4-A201-A30A470B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6C00-186A-4D72-9BB6-C0E229D3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25CF-6EAA-4B2A-A098-855B2B88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6F8B-A65F-4D07-BC0D-727584B4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FA47-3646-49E2-8623-D4A55046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F143-4F9B-4C13-AE21-2FD67BB0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A4FB-01BD-489C-9ED4-61012D59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DB8C-E727-40EA-9E7F-3709B33B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FEC5-A44B-4841-AA34-892B6768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9440-DAD7-47D9-92E0-9BF5A1AE2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BF17-02C2-49C9-AE06-F79A050FB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7205-22BB-4AF5-9DA2-696B00BD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0D9E-7A74-4678-B051-6E5E226F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4CDE-0192-42B7-9665-384C3756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9FF8-DD5E-4CEF-B897-76132A6B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24AE-29D3-40E9-B1AB-46CE678F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83E3-FBE6-4B5A-AAD8-6656C3AD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7034-DE01-4C9B-8230-10EF5DDF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9410-A88E-460F-AA7D-7FA166AE428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8CAD-13EC-4D16-84D4-E674B1BD34B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Latest developments in the EU legislation</a:t>
            </a:r>
            <a:br>
              <a:rPr sz="2800"/>
            </a:br>
            <a:r>
              <a:rPr b="1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on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Viktorija Proskurovska, EBF Adviser</a:t>
            </a:r>
            <a:br>
              <a:rPr sz="2500"/>
            </a:b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18th edition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russels, 3 December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EPA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9-Sept-09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sult of a EC consultation shows that an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end-dat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o the process of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migration to SEPA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s required. Migration to SEPA is irreversibl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-Nov-09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2800"/>
            </a:b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Bank account switching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within a MS is made easier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-Nov-09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EPA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Direct Debit Schem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for EU MS) becomes effectiv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5A6A-2665-4F40-A4FC-77FC7B50F7C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8AEB-B5F3-4E2E-BBC6-D6417CCE2F1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4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onsultation on the IFRS for S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change of audit working papers between MSs and Canada, Japan and Switzerland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Need to remove barriers to entry for audit firm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ossible adoption of international standards for statutory audit of EU companie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2357280" y="285840"/>
            <a:ext cx="6500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5cad"/>
                </a:solidFill>
                <a:latin typeface="Times New Roman"/>
              </a:rPr>
              <a:t>Financial Reporting and Taxation 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6815-77AA-4530-82A2-CF803CA9C73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oval of barriers to entry for audit firm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7-Jul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C published a summary of the consultation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on control structures in audit firms and their consequences on the audit market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tudy,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, concludes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ll potential barriers to the entry, growth and survival of audit firms in the international audit market must be removed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urrent rules are not indispensable in order to retain human capital.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 number of other</a:t>
            </a:r>
            <a:r>
              <a:rPr b="1" lang="en-GB" sz="20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barriers to increasing the number of audit firms operating on the international market were identified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D250-D0F4-48F7-B7EE-F040B5C2A70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Thank you for your attention!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6318-B775-4867-850E-1982155D222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28 Recent Develop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anking Regulation and Supervision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6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Markets and Securiti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7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tail Financial Services and Paymen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11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Financial Reporting and Tax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 4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mark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ll EU legislative initiatives in the past period have been related to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countering the causes of the current financial crisi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irectly or indirectly, most of the legislative initiative have a European and often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international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 scop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n this Presentation: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focus on one issue per theme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For more detail, see the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complete set of initiative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to be circulated after meeting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B522-4B6E-4C7C-A3BD-E7C374021DB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D064-CD5D-4C36-BFC3-4AA19BF6DD7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6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Strengthened financial supervision in Europ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2)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New EU Framework for Crisis Management in the Banking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trengthened rules on bank capital and on remuneration in the banking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hanges to the Capital Requirements Directive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view of the Financial Conglomerates Directiv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2500200" y="285840"/>
            <a:ext cx="6357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cad"/>
                </a:solidFill>
                <a:latin typeface="Times New Roman"/>
              </a:rPr>
              <a:t>Banking Regulation &amp; Supervision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E4EF-4CD7-4DB2-AB1A-A14FDAD18F6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inancial Supervis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3-Sep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 package of draft legislation to strengthen supervision of the financial sector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legislation will create a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ic Risk Board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ESRB) and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 of Financial Supervisor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ESFS), to be established by end-2010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6-Oc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dditional legislative proposals targeted to change existing financial services legislation to ensure that the new Authorities can work effectively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4C7A-6D00-47F6-AF4C-F525E93CB41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7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Strengthened safety of derivatives market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2)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afer European market for credit default swap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erivatives in crisis – Safeguarding Financial Stability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d tape reduction and improvement of investor protection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tudy on trading and post-trading prices, costs and volu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ublic consultation on the UCITS depositary function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500200" y="285840"/>
            <a:ext cx="6357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cad"/>
                </a:solidFill>
                <a:latin typeface="Times New Roman"/>
              </a:rPr>
              <a:t>Financial Markets &amp; Securities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887B-A34F-4102-B190-15EBC6992C9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afety of derivatives marke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0-Oc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fter a stakeholder Consultation launched in Jul-09 and the public hearing in Sept-09, EC adopted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Communication for ensuring efficient, safe and sound derivatives market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The Communication sets out future policy actions to: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increase transparency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of the derivatives market,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reduce counterparty and operational risk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in trading and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enhance market integrity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and </a:t>
            </a: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oversight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EC will start a process of drafting legislation, notably by launching impact assessments, and come forward with legislative proposals in 2010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6E22-BBBC-4B55-95AA-FEEEFDA6337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11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Consumers to start benefiting from easier bank account switching from Nov-09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SEPA – Cross-Border Payments Now A Reality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Possible end-date for SEPA migr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General support for end-date for SEPA migr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Actions to make SEPA a succes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Technical Workshop on Packaged Retail Investment Product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ing access to a basic bank account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lternative dispute resolution (ADR) in the area of financial service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Report on the financial crisis and financial educ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ing responsible lending and borrowing in the EU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xpert group report on credit histories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2357280" y="285840"/>
            <a:ext cx="6500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5cad"/>
                </a:solidFill>
                <a:latin typeface="Times New Roman"/>
              </a:rPr>
              <a:t>Retail Financial Services &amp; Payments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3E44-DB7F-4EA6-ADC6-52A9134488F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EPA Roadmap for 2009-2012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0-Sept-09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C adopted a Communication on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Completing SEPA: a Roadmap for 2009-2012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ommunication provides a framework for action within six priority areas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Foster migration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Increase SEPA awareness and promote SEPA products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Design a sound legal environment and strengthen SEPA compliance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Promote innovation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e necessary standardisation, interoperability and security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Clarify and improve SEPA governance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4:54:20Z</dcterms:created>
  <dc:creator>proskurovska</dc:creator>
  <dc:description/>
  <dc:language>en-US</dc:language>
  <cp:lastModifiedBy>Viktorija Proskurovska</cp:lastModifiedBy>
  <dcterms:modified xsi:type="dcterms:W3CDTF">2009-12-02T11:23:45Z</dcterms:modified>
  <cp:revision>197</cp:revision>
  <dc:subject/>
  <dc:title>Latest developments in the EU legislation on financial services</dc:title>
</cp:coreProperties>
</file>